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9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11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24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png" ContentType="image/png"/>
  <Override PartName="/ppt/media/image19.png" ContentType="image/png"/>
  <Override PartName="/ppt/media/image15.jpeg" ContentType="image/jpeg"/>
  <Override PartName="/ppt/media/image14.png" ContentType="image/png"/>
  <Override PartName="/ppt/media/image3.png" ContentType="image/png"/>
  <Override PartName="/ppt/media/image17.jpeg" ContentType="image/jpeg"/>
  <Override PartName="/ppt/media/image2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39600" indent="-39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960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  <a:ea typeface="Arial"/>
              </a:rPr>
              <a:t>Jardines comunitarios de Nueva York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9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Verdana"/>
                <a:ea typeface="Verdana"/>
              </a:rPr>
              <a:t>Disfrutando una comida al aire lib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9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Verdana"/>
                <a:ea typeface="Verdana"/>
              </a:rPr>
              <a:t>Tranquilidad a media ciuda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9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s 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  <a:ea typeface="Arial"/>
              </a:rPr>
              <a:t>jardines </a:t>
            </a:r>
            <a:r>
              <a:rPr b="0" lang="es-MX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unitarios brindan alimentos fresco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9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orgullo comunitario y la presencia de mas gente en las calles hacen más seguro y más atractivo al barrio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9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9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9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formaron agrupaciones para proteger y propagar los 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  <a:ea typeface="Arial"/>
              </a:rPr>
              <a:t>jardines</a:t>
            </a:r>
            <a:r>
              <a:rPr b="0" lang="es-MX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9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Verdana"/>
                <a:ea typeface="Verdana"/>
              </a:rPr>
              <a:t>Las calles Bowery y Broadway en 1831 (después fue sitio de Union Square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9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Verdana"/>
                <a:ea typeface="Verdana"/>
              </a:rPr>
              <a:t>Edificios vacíos y lotes baldíos en el barrio del Bowery (1973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9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Verdana"/>
                <a:ea typeface="Verdana"/>
              </a:rPr>
              <a:t>Construyendo el primer huerto.  Los montones de basura alcanzaban los tres metros de altura antes de que comenzara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9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9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9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z Christy formó la Guerrilla Verde para difundir el concepto de los 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  <a:ea typeface="Arial"/>
              </a:rPr>
              <a:t>jardines </a:t>
            </a:r>
            <a:r>
              <a:rPr b="0" lang="es-MX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unitario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9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Verdana"/>
                <a:ea typeface="Verdana"/>
              </a:rPr>
              <a:t>Se prohibieron los pesticidas.  Participantes orgullosamente demuestran su cosecha de flores y verduras orgánica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9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Verdana"/>
                <a:ea typeface="Verdana"/>
              </a:rPr>
              <a:t>El parque memorial a Liz Chris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9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s 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  <a:ea typeface="Arial"/>
              </a:rPr>
              <a:t>jardines </a:t>
            </a:r>
            <a:r>
              <a:rPr b="0" lang="es-MX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n un “espacio comunitario”.  Son un espacio de reunión tanto para gente como animal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9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Verdana"/>
                <a:ea typeface="Verdana"/>
              </a:rPr>
              <a:t>Tortugas y peces en un estanqu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8E799B-0B23-4D73-9A66-FE1B58CB54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5280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521BEC-0182-4E34-AC60-3063C83F0D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5280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5280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7665DE-B018-4DA1-A3B6-97913E746D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5280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5280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5280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AF66D4-C8C6-48C2-A27B-CB181305272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BC181B-B023-4A70-B97E-01772A4232C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A773C6-BA98-4862-9C0D-0E267615E2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7D77BA-571C-4933-B0FB-735DECE0C3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6069A4-2C62-4B08-BBA1-0D57C60065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359B8B-7B46-459C-9920-5E0855B5D0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5280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2347D3-F4C8-4587-AD08-4688069571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5280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6D84FB-3BA6-4B1E-B29F-1FB2247EE6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5280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DB1265-59B6-45D2-9895-C0C91BFFA9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38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348680" y="6248520"/>
            <a:ext cx="3124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C9E59-3C71-4059-87F0-6EAB88B804B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png"/><Relationship Id="rId6" Type="http://schemas.openxmlformats.org/officeDocument/2006/relationships/image" Target="../media/image15.jpeg"/><Relationship Id="rId7" Type="http://schemas.openxmlformats.org/officeDocument/2006/relationships/image" Target="../media/image16.jpeg"/><Relationship Id="rId8" Type="http://schemas.openxmlformats.org/officeDocument/2006/relationships/image" Target="../media/image17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1" descr=""/>
          <p:cNvPicPr/>
          <p:nvPr/>
        </p:nvPicPr>
        <p:blipFill>
          <a:blip r:embed="rId1"/>
          <a:stretch/>
        </p:blipFill>
        <p:spPr>
          <a:xfrm>
            <a:off x="0" y="304920"/>
            <a:ext cx="9144000" cy="6176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1" descr=""/>
          <p:cNvPicPr/>
          <p:nvPr/>
        </p:nvPicPr>
        <p:blipFill>
          <a:blip r:embed="rId1"/>
          <a:srcRect l="1663" t="2254" r="2499" b="1930"/>
          <a:stretch/>
        </p:blipFill>
        <p:spPr>
          <a:xfrm>
            <a:off x="0" y="228600"/>
            <a:ext cx="9144000" cy="6400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" descr=""/>
          <p:cNvPicPr/>
          <p:nvPr/>
        </p:nvPicPr>
        <p:blipFill>
          <a:blip r:embed="rId1"/>
          <a:srcRect l="0" t="0" r="0" b="11708"/>
          <a:stretch/>
        </p:blipFill>
        <p:spPr>
          <a:xfrm>
            <a:off x="-23760" y="0"/>
            <a:ext cx="9167760" cy="5638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4557600" cy="54864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" descr=""/>
          <p:cNvPicPr/>
          <p:nvPr/>
        </p:nvPicPr>
        <p:blipFill>
          <a:blip r:embed="rId2"/>
          <a:stretch/>
        </p:blipFill>
        <p:spPr>
          <a:xfrm>
            <a:off x="5118120" y="0"/>
            <a:ext cx="4025880" cy="548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1" descr=""/>
          <p:cNvPicPr/>
          <p:nvPr/>
        </p:nvPicPr>
        <p:blipFill>
          <a:blip r:embed="rId1"/>
          <a:stretch/>
        </p:blipFill>
        <p:spPr>
          <a:xfrm>
            <a:off x="2421000" y="0"/>
            <a:ext cx="46116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"/>
          <p:cNvPicPr/>
          <p:nvPr/>
        </p:nvPicPr>
        <p:blipFill>
          <a:blip r:embed="rId1"/>
          <a:stretch/>
        </p:blipFill>
        <p:spPr>
          <a:xfrm>
            <a:off x="0" y="669960"/>
            <a:ext cx="9144000" cy="5518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"/>
          <p:cNvPicPr/>
          <p:nvPr/>
        </p:nvPicPr>
        <p:blipFill>
          <a:blip r:embed="rId1"/>
          <a:stretch/>
        </p:blipFill>
        <p:spPr>
          <a:xfrm>
            <a:off x="2048040" y="0"/>
            <a:ext cx="50464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"/>
          <p:cNvPicPr/>
          <p:nvPr/>
        </p:nvPicPr>
        <p:blipFill>
          <a:blip r:embed="rId1"/>
          <a:srcRect l="7529" t="8506" r="5647" b="10316"/>
          <a:stretch/>
        </p:blipFill>
        <p:spPr>
          <a:xfrm>
            <a:off x="0" y="762120"/>
            <a:ext cx="9144000" cy="51688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" descr=""/>
          <p:cNvPicPr/>
          <p:nvPr/>
        </p:nvPicPr>
        <p:blipFill>
          <a:blip r:embed="rId1"/>
          <a:srcRect l="29318" t="0" r="0" b="0"/>
          <a:stretch/>
        </p:blipFill>
        <p:spPr>
          <a:xfrm>
            <a:off x="-17640" y="0"/>
            <a:ext cx="4710240" cy="52578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" descr=""/>
          <p:cNvPicPr/>
          <p:nvPr/>
        </p:nvPicPr>
        <p:blipFill>
          <a:blip r:embed="rId2"/>
          <a:stretch/>
        </p:blipFill>
        <p:spPr>
          <a:xfrm>
            <a:off x="5149800" y="0"/>
            <a:ext cx="3994200" cy="525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"/>
          <p:cNvPicPr/>
          <p:nvPr/>
        </p:nvPicPr>
        <p:blipFill>
          <a:blip r:embed="rId1"/>
          <a:stretch/>
        </p:blipFill>
        <p:spPr>
          <a:xfrm>
            <a:off x="0" y="1905120"/>
            <a:ext cx="3359160" cy="25146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" descr=""/>
          <p:cNvPicPr/>
          <p:nvPr/>
        </p:nvPicPr>
        <p:blipFill>
          <a:blip r:embed="rId2"/>
          <a:stretch/>
        </p:blipFill>
        <p:spPr>
          <a:xfrm>
            <a:off x="3295800" y="0"/>
            <a:ext cx="5848200" cy="548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"/>
          <p:cNvPicPr/>
          <p:nvPr/>
        </p:nvPicPr>
        <p:blipFill>
          <a:blip r:embed="rId1"/>
          <a:stretch/>
        </p:blipFill>
        <p:spPr>
          <a:xfrm>
            <a:off x="0" y="1639800"/>
            <a:ext cx="9144000" cy="3129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" descr=""/>
          <p:cNvPicPr/>
          <p:nvPr/>
        </p:nvPicPr>
        <p:blipFill>
          <a:blip r:embed="rId1"/>
          <a:stretch/>
        </p:blipFill>
        <p:spPr>
          <a:xfrm>
            <a:off x="2971800" y="4191120"/>
            <a:ext cx="3314880" cy="22096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"/>
          <p:cNvPicPr/>
          <p:nvPr/>
        </p:nvPicPr>
        <p:blipFill>
          <a:blip r:embed="rId2"/>
          <a:stretch/>
        </p:blipFill>
        <p:spPr>
          <a:xfrm>
            <a:off x="4952880" y="-13639680"/>
            <a:ext cx="2394000" cy="32004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" descr=""/>
          <p:cNvPicPr/>
          <p:nvPr/>
        </p:nvPicPr>
        <p:blipFill>
          <a:blip r:embed="rId3"/>
          <a:stretch/>
        </p:blipFill>
        <p:spPr>
          <a:xfrm>
            <a:off x="228600" y="762120"/>
            <a:ext cx="1752480" cy="26287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" descr=""/>
          <p:cNvPicPr/>
          <p:nvPr/>
        </p:nvPicPr>
        <p:blipFill>
          <a:blip r:embed="rId4"/>
          <a:stretch/>
        </p:blipFill>
        <p:spPr>
          <a:xfrm>
            <a:off x="2286000" y="533520"/>
            <a:ext cx="2048040" cy="30477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" descr=""/>
          <p:cNvPicPr/>
          <p:nvPr/>
        </p:nvPicPr>
        <p:blipFill>
          <a:blip r:embed="rId5"/>
          <a:srcRect l="6263" t="0" r="6263" b="0"/>
          <a:stretch/>
        </p:blipFill>
        <p:spPr>
          <a:xfrm>
            <a:off x="4800600" y="609480"/>
            <a:ext cx="1752480" cy="26784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"/>
          <p:cNvPicPr/>
          <p:nvPr/>
        </p:nvPicPr>
        <p:blipFill>
          <a:blip r:embed="rId6"/>
          <a:stretch/>
        </p:blipFill>
        <p:spPr>
          <a:xfrm>
            <a:off x="7010280" y="685800"/>
            <a:ext cx="1886040" cy="25146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7" descr=""/>
          <p:cNvPicPr/>
          <p:nvPr/>
        </p:nvPicPr>
        <p:blipFill>
          <a:blip r:embed="rId7"/>
          <a:stretch/>
        </p:blipFill>
        <p:spPr>
          <a:xfrm>
            <a:off x="6477120" y="4572000"/>
            <a:ext cx="2286000" cy="15238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8" descr=""/>
          <p:cNvPicPr/>
          <p:nvPr/>
        </p:nvPicPr>
        <p:blipFill>
          <a:blip r:embed="rId8"/>
          <a:stretch/>
        </p:blipFill>
        <p:spPr>
          <a:xfrm>
            <a:off x="228600" y="4572000"/>
            <a:ext cx="2495520" cy="167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1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ffice 2004 Test Drive User</dc:creator>
  <dc:description/>
  <dc:language>en-US</dc:language>
  <cp:lastModifiedBy>Gerry Marten</cp:lastModifiedBy>
  <dcterms:modified xsi:type="dcterms:W3CDTF">2010-10-08T23:07:23Z</dcterms:modified>
  <cp:revision>2</cp:revision>
  <dc:subject/>
  <dc:title>Community Gardens New York City</dc:title>
</cp:coreProperties>
</file>